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5FD-62C5-4009-AB57-BA66FC3E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09E-EC83-449D-9CE5-4D6F80E4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22B-C397-4D7D-AA16-6D8587E2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547-3E0E-430D-8A63-39DCF650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0496-1CAD-413C-86A4-62E1EB75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5A23-56A2-44C5-97F0-34E7CF6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00B7-232F-4191-84BB-22FAAFE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952D-40DF-4752-8AA6-4A6493B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12D-E773-4CE3-837E-B38B74BF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2BCF-24BE-4EB3-A544-484AF19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BC5-9438-4C40-A7BE-5A95DB0F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0BA-3030-4D22-B9B0-945F4AA6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AD6F-D1F4-494F-8923-833EE68D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F6C-E33F-425A-9271-78FE6A8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1938-06E8-4949-AC9C-C0E914DD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B2AB-73B7-49F5-B10C-DF47FEF6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8D6-F4D2-4EB6-AD9A-2D496E28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FC5-D01C-4541-99CC-C5189892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8E8-E096-4754-86E5-0D97C7E1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B26-737F-463B-B857-292889B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48F-20BE-436F-A883-432BCA9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CF8-BE95-4841-BA09-526927E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8AE-4A99-4A13-A344-539597F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EFC-6D2A-4125-9405-7FD393C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21D-1998-4D4E-9CD5-8B51D363E9E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767-9115-4C9B-A97B-886A6CA3E3E8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arviointi kaikessa päätöksenteoss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ikko Pohjola Y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VA kaikkeen päätöksenteko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Miksi?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aa tietoa päätöksentek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päätök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to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arempia vaikutuks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156360" y="256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70836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588000" y="1555920"/>
            <a:ext cx="1798920" cy="720720"/>
          </a:xfrm>
          <a:prstGeom prst="wedgeRectCallout">
            <a:avLst>
              <a:gd name="adj1" fmla="val -43731"/>
              <a:gd name="adj2" fmla="val 74009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Tietoa kenel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ieto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t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643280" y="2852640"/>
            <a:ext cx="2016360" cy="50508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211640" y="3932280"/>
            <a:ext cx="2016000" cy="50472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oiminta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toimes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788000" y="4794120"/>
            <a:ext cx="2016000" cy="722520"/>
          </a:xfrm>
          <a:prstGeom prst="wedgeRectCallout">
            <a:avLst>
              <a:gd name="adj1" fmla="val -44407"/>
              <a:gd name="adj2" fmla="val 73958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vaikutuks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s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hin kohdistu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.: marketti taajaman ulkopuolell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54200" y="1628640"/>
            <a:ext cx="1800360" cy="27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ava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vestointi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up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nnemuo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alvelujen sijai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uinpaik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714920" y="1628640"/>
            <a:ext cx="180036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enkilö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ken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ämmitys, sähk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lu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n tuot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paa-ajan vi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5640" y="1628640"/>
            <a:ext cx="180000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n la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stonmu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Ympäristökuorm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ot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Fyysinen aktiivisu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iihtyisy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3840" y="1628640"/>
            <a:ext cx="1800000" cy="38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Päättäjät: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ysymy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yhteisön tarp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Asiantuntij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tutkimus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einot, välin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Yritykset, kansalaiset, järjestö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4067280" y="292428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067280" y="256392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067280" y="220500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2482920" y="2060640"/>
            <a:ext cx="151128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35456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219384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651528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4"/>
          <p:cNvSpPr/>
          <p:nvPr/>
        </p:nvSpPr>
        <p:spPr>
          <a:xfrm rot="10800000">
            <a:off x="2555640" y="5156280"/>
            <a:ext cx="2447640" cy="792000"/>
          </a:xfrm>
          <a:prstGeom prst="wedgeRectCallout">
            <a:avLst>
              <a:gd name="adj1" fmla="val 55120"/>
              <a:gd name="adj2" fmla="val 1397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asiat 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muuttuvat, jos...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pitäisi ol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stä siis on ky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yvä terveysvaikutusarviointi johtaa (auttaa) hyviin päätöksiin, toimiin ja vaikutuksi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Olemassa/saatavilla olevan tiedon käyttö on ratkaisevaa!</a:t>
            </a:r>
            <a:br>
              <a:rPr sz="2000"/>
            </a:b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Mi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32000" y="3416400"/>
            <a:ext cx="6264360" cy="222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n tuotanto ja arviointi tiiviisti yh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oleelliset toimijat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Arvokasta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Merkitystä päättäjänä, toimijana tai kok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määrät ja arvot mukaan arviointiin ja jul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ksittäisten tapausten tiedot myös muide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ikuttavuuden arviointi ja seur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llaboratiivisen tiedon tuotannon ja käytön toimi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5516640"/>
            <a:ext cx="748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inoja ja välineitä sekä halua vaikuttaa on, mutta päätöksenteon viitekehykset ja toimintamallit ehkäisevät tiedon vaikuttavuut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ARI,suomenk"/>
          <p:cNvPicPr/>
          <p:nvPr/>
        </p:nvPicPr>
        <p:blipFill>
          <a:blip r:embed="rId1"/>
          <a:stretch/>
        </p:blipFill>
        <p:spPr>
          <a:xfrm>
            <a:off x="2378160" y="1341360"/>
            <a:ext cx="40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oimenpide-ehdo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n päätöksenteon ja sen tukemisen viitekehysten ja toimintatapojen kehittä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~ Luodaan kysyntää vastaamaan tiedon tarjo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2781360"/>
            <a:ext cx="3743280" cy="326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ilot projekti 2012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219640" y="3462480"/>
            <a:ext cx="3240000" cy="160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2015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Yhteiskunnallisen päätöksenteon viitekehysten ja toimintamallien laajempi uudistami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50072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Mitä pilotti ehkä olisi käytännössä?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MAL kehittää päätöksenteon ideaalimallin, kuten se on kehittänyt arvioinnin ideaalimallin. Tätä käytetään tunnistaman kehityskohteita nykyisissä käytännöissä. Yhteistyössä HYVE, Innokylä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ehityskohteiden tunnistamisen tavoitteena on 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) parantaa päätöksenteon käytäntöjä ja 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) parantaa ideaalimallia tosielämän opetusten avu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pauskohteita haetaan korkealla profiililla (THL johto+STM) tavoitteena löytää (kuntatason) päättäjiä, jotka tosissaan haluavat parantaa omaa päätöksentekoaan.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arvelähtöisyy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MAL (+HYVE? +Innokylä?) jalkautuvat mukaan näihin päätösprosesseihin tukemaan ja konsultoim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os mahdollista, koeasetelma siten, että valitut kohteet arvotaan kahteen ryhmään, joista verrokkien seuranta alkaa heti mutta tuki 12 kk myöhem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yvyyttä peilataan ideaalimalliin ja päättäjien itse itselleen asettamiin vaikuttavuustavoitteisi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ilottien tavoitteena käytäntöjä ja ohjeistusta, jotka ovat laajennettavissa uusiin tilanteisiin samalla tavalla kuin kiusaamisen vastainen KiVa-koulukampanja on laajentunut 5 vuodessa pilottikouluista koko Suome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1:31:58Z</dcterms:modified>
  <cp:revision>19</cp:revision>
  <dc:subject/>
  <dc:title>Avoin mallitus. Esimerkkinä liikenteen muutosten päästövaikutukset ja sairastuvuus</dc:title>
</cp:coreProperties>
</file>